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5B75-1C07-46F3-A887-531D8359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E906-B0BC-4249-A904-157F66C3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8CD-5226-4546-B3A0-EBEBB931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3AC-EBDE-40B3-996A-6EB3A5A7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8CA-94D0-4417-BB02-1B6DAA58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989-2EC9-4587-B68D-D02E8C57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63B-20D5-43EF-9EEE-802484E3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300-A4F1-4D0B-92E9-0884F322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40A-8A54-4C39-B635-C774E34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75F-8771-456A-8E38-D146842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AED-2AD7-4F14-83AC-AECE298E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1F8-040E-4EC0-9904-64539C3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9F1-F86E-428A-ABCA-635287C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DB8-65DA-4A05-B7DE-DABEBBF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19AD-FAA1-4C94-B93C-A64484433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anklin Gothic Heavy"/>
              </a:rPr>
              <a:t>Educational Technology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Enhancing education through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j"/>
          <p:cNvPicPr/>
          <p:nvPr/>
        </p:nvPicPr>
        <p:blipFill>
          <a:blip r:embed="rId3"/>
          <a:stretch/>
        </p:blipFill>
        <p:spPr>
          <a:xfrm>
            <a:off x="7467480" y="556272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ucational Technology i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eaching –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livery vehicle for instructional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rner learns from the technology and the technology serves as a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chnology is seen as a productivity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 Partners in the learning process (constructiv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technology is a tool to learn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not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kes the learner gather, think, analyze, synthesize information and construct meaning with what technology pres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y serves as a medium in representing what the learner knows and what he/she is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Roles of Ed tech in the teaching-learning proces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3. Educational Technology helps improve the teaching learning process throu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increasing the degree of learning or mas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4.  Learning is interactive thus learners are encourage to particip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s of technology in learning from the constructivist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 tools to support knowledg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s information vehicles for exploring knowledge to support learning-by-constru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s context to support learning by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 a social medium to support learning by conve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 intellectual partner to support learning-by-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Heavy"/>
              </a:rPr>
              <a:t>What is Educational Technology all about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99436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fju"/>
          <p:cNvPicPr/>
          <p:nvPr/>
        </p:nvPicPr>
        <p:blipFill>
          <a:blip r:embed="rId2"/>
          <a:stretch/>
        </p:blipFill>
        <p:spPr>
          <a:xfrm>
            <a:off x="4419720" y="5410080"/>
            <a:ext cx="293364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jj"/>
          <p:cNvPicPr/>
          <p:nvPr/>
        </p:nvPicPr>
        <p:blipFill>
          <a:blip r:embed="rId3"/>
          <a:stretch/>
        </p:blipFill>
        <p:spPr>
          <a:xfrm>
            <a:off x="7670880" y="5537160"/>
            <a:ext cx="7617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Technology – is  a holistic  application of learning theories to enhance communication through the use of instructional tools to impact learning and its assessment to develop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technology in supporting learning pro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refers to how people utilize their inventions and discoveries to satisfy their needs and desires such as in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842080" y="4775040"/>
            <a:ext cx="3301920" cy="208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fju"/>
          <p:cNvPicPr/>
          <p:nvPr/>
        </p:nvPicPr>
        <p:blipFill>
          <a:blip r:embed="rId2"/>
          <a:stretch/>
        </p:blipFill>
        <p:spPr>
          <a:xfrm>
            <a:off x="4267080" y="5410080"/>
            <a:ext cx="2934000" cy="800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rely concerned with technology as It impacts upon the learning process such a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ing learn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ssessment and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jj"/>
          <p:cNvPicPr/>
          <p:nvPr/>
        </p:nvPicPr>
        <p:blipFill>
          <a:blip r:embed="rId3"/>
          <a:stretch/>
        </p:blipFill>
        <p:spPr>
          <a:xfrm>
            <a:off x="7518240" y="553716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application of scientific findings in our method, process or procedure or working in the field of education in order to affec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a field study and prof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mbraces curriculum and instructional design, learning environment and theories of teaching-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use of all human inventions for teachers to realize their mission to teach in order that students l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difference-degree-phd-educational-technology_-800X800"/>
          <p:cNvPicPr/>
          <p:nvPr/>
        </p:nvPicPr>
        <p:blipFill>
          <a:blip r:embed="rId1"/>
          <a:stretch/>
        </p:blipFill>
        <p:spPr>
          <a:xfrm>
            <a:off x="5715000" y="4648320"/>
            <a:ext cx="3301920" cy="208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fju"/>
          <p:cNvPicPr/>
          <p:nvPr/>
        </p:nvPicPr>
        <p:blipFill>
          <a:blip r:embed="rId2"/>
          <a:stretch/>
        </p:blipFill>
        <p:spPr>
          <a:xfrm>
            <a:off x="4140360" y="5283360"/>
            <a:ext cx="293364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jj"/>
          <p:cNvPicPr/>
          <p:nvPr/>
        </p:nvPicPr>
        <p:blipFill>
          <a:blip r:embed="rId3"/>
          <a:stretch/>
        </p:blipFill>
        <p:spPr>
          <a:xfrm>
            <a:off x="7391520" y="5410080"/>
            <a:ext cx="761760" cy="609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hases of Educational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718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114800" y="1295280"/>
            <a:ext cx="2209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324480" y="2057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2895480"/>
            <a:ext cx="243828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48160" y="3886200"/>
            <a:ext cx="9903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733920" y="5029200"/>
            <a:ext cx="2438280" cy="138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 flipV="1">
            <a:off x="2286000" y="403848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3880" y="3495600"/>
            <a:ext cx="2438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39625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429000" y="40384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3429000" y="236196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2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echnology in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1066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application  of technology to any of those processes involved in operating the institutions which house the educational enterpris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04920" y="27432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includes the application of technology to food, health, finance, scheduling, grade, reporting, and other processes which support education within instit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04920" y="47008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he audio visual aids, software and hardware as learning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2:22:55Z</dcterms:created>
  <dc:creator>WL18</dc:creator>
  <dc:description/>
  <dc:language>en-US</dc:language>
  <cp:lastModifiedBy>msu-iit</cp:lastModifiedBy>
  <dcterms:modified xsi:type="dcterms:W3CDTF">2011-06-28T03:20:36Z</dcterms:modified>
  <cp:revision>15</cp:revision>
  <dc:subject/>
  <dc:title>Educational Technology</dc:title>
</cp:coreProperties>
</file>